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2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24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22EB-32D9-4466-AA53-867EBF040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ooter Placeholder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D3C2-839E-4263-A9E3-ACF2C2C3E6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2E9A-7DF2-4A39-8AA7-47BA3492CC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FDB2-216C-4447-9C3A-CE32EA9C3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FBAB-521D-4243-A1E8-CF512F6412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7C95-B3F4-4FE8-ADA2-4B515686B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05E9-6EFA-4596-B8E3-C21DBB1E7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127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510B-2E06-4CE8-B9DA-092772D4D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3A73-F864-4F4F-9F1A-6FC345E6E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E3E4-896B-4E11-81C5-D80457E9C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423E-279C-4627-8DDD-CF833C908D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B2D9-F736-470E-AB3B-712FB9C775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EB94-188F-4BB4-8B5B-4ADD4CC43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9DC4-C1BF-4287-ACF4-5E69030F3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3C60-5BB0-4911-8EAF-871823DBFC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A454-6374-4F0F-941B-CCDA72492D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2F67-A76F-461B-B386-640E257419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95C1-FE45-44C0-85FB-7A0526192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1C5C-1C61-41FE-BD94-17C82F5F4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E520-E90C-4E6E-A368-F1ABAA527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1E35-3B70-48CC-A8F8-15836FF94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57CD-B179-4F2B-AEDA-A52CA04F9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3EA4-97C5-440B-99C2-1C478DD40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90DA-5EE2-42CC-A784-DB6B840DB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D819-5DE0-4257-B247-5CCF8A318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AF2C-3EF2-499F-8A71-993544034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2BCA-F3B8-42EB-AFE3-E0E23BCEEA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ED0E-98A4-4B6A-8240-5C99E7671D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F27C-0B2D-456C-96BF-F38775E5A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EAB8-8980-4195-A0ED-4630DE0CBE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A5F0-8CCF-4C1F-90ED-73B733C1A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5BE1-991F-48BA-835B-00B5746E4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B94E-906B-4AC7-B80B-5F9DBDE22A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4F0E-4312-4F46-B5C5-BB0B068D45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713E-3A6E-42A0-AC65-A97150B551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94B8-3FA8-455B-A465-7DBCC8CB0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6487-5400-4CC8-8DFC-7DDFC1EFF6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9535-F3CC-4760-89B5-A6939DEF68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0948-14C9-4275-B3DB-F18D08693E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9B2D-A1F1-4FAB-84A5-F2C196260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68DB-4C5A-46EE-A7F6-D6031EB14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7426-47B3-4F8E-B4C1-43AA0EDCF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CCC2-3AD7-49B8-A9D0-87EF27EAE1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of eBooks for Students with Visual Impair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8C4D-B4FC-4AA4-A8F1-D0F8067C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6FFA-8A6F-4DB8-9988-7E1D0607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C713-4733-46A9-894C-6C694539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D179-75E4-4FF8-9771-A14BE483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779D-2FED-4FCB-B284-E34B2E2C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FA06-2F4A-491A-B1BB-BD0BB054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3939-205E-4421-A469-5673781C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F788-A1A3-4D4D-BA92-8BBF0084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9AFE-4B11-441D-840B-6D928B18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819E-F8BE-4549-BA81-02D21C1F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E278-E950-4FD3-BBA4-348462BF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0DA3-B08C-4B86-90C0-4C2FC301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0E5A-C95D-43A0-B355-0C9AD2379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learningthroughlistening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accessible-devices.com/electronicbooks.html" TargetMode="External"/><Relationship Id="rId2" Type="http://schemas.openxmlformats.org/officeDocument/2006/relationships/hyperlink" Target="http://www.afb.org/Section.asp?SectionID=4&amp;TopicID=222&amp;DocumentID=371" TargetMode="External"/><Relationship Id="rId3" Type="http://schemas.openxmlformats.org/officeDocument/2006/relationships/hyperlink" Target="http://www.bridges4kids.org/articles/12-03/Bookshare12-03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nimas.cast.org/about/resources/dtb.html" TargetMode="External"/><Relationship Id="rId2" Type="http://schemas.openxmlformats.org/officeDocument/2006/relationships/hyperlink" Target="http://nimas.cast.org/about/resources/accessible-textbooks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130120"/>
            <a:ext cx="8076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Potential of Electronic Books for Students with Visual Impair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42840" y="4266720"/>
            <a:ext cx="3352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August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Bookshare_v1.gif"/>
          <p:cNvPicPr/>
          <p:nvPr/>
        </p:nvPicPr>
        <p:blipFill>
          <a:blip r:embed="rId1"/>
          <a:stretch/>
        </p:blipFill>
        <p:spPr>
          <a:xfrm>
            <a:off x="380880" y="1143000"/>
            <a:ext cx="2087640" cy="72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RFBD.gif"/>
          <p:cNvPicPr/>
          <p:nvPr/>
        </p:nvPicPr>
        <p:blipFill>
          <a:blip r:embed="rId2"/>
          <a:stretch/>
        </p:blipFill>
        <p:spPr>
          <a:xfrm>
            <a:off x="380880" y="5105520"/>
            <a:ext cx="2000520" cy="110484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5" descr=""/>
          <p:cNvPicPr/>
          <p:nvPr/>
        </p:nvPicPr>
        <p:blipFill>
          <a:blip r:embed="rId3"/>
          <a:stretch/>
        </p:blipFill>
        <p:spPr>
          <a:xfrm>
            <a:off x="7070760" y="622440"/>
            <a:ext cx="1994040" cy="1145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Project Gutenberg.jpg"/>
          <p:cNvPicPr/>
          <p:nvPr/>
        </p:nvPicPr>
        <p:blipFill>
          <a:blip r:embed="rId4"/>
          <a:stretch/>
        </p:blipFill>
        <p:spPr>
          <a:xfrm>
            <a:off x="3886200" y="457200"/>
            <a:ext cx="157788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AccessableBookCollection.jpg"/>
          <p:cNvPicPr/>
          <p:nvPr/>
        </p:nvPicPr>
        <p:blipFill>
          <a:blip r:embed="rId5"/>
          <a:stretch/>
        </p:blipFill>
        <p:spPr>
          <a:xfrm>
            <a:off x="6629400" y="4191120"/>
            <a:ext cx="1781280" cy="1438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igital Audio Book Play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ardware Play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.g., Plextalk PTN1Pro, Plextalk PTR2, Victor Reader Classic, Victor Reader Classic+, Victor Reader Vibe, Victor Reader Wave, Victor Reader Str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oftware Op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.g., Victor Reader Soft (Windows and Mac), eClipseReader, EaseReader, FS Re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DAs (digital book reader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.g., BrailleNote, PacMate, Maest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victor reader stream nfb org.jpg"/>
          <p:cNvPicPr/>
          <p:nvPr/>
        </p:nvPicPr>
        <p:blipFill>
          <a:blip r:embed="rId1"/>
          <a:stretch/>
        </p:blipFill>
        <p:spPr>
          <a:xfrm>
            <a:off x="7848720" y="5181480"/>
            <a:ext cx="914400" cy="1397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-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lectronic text files can be converted into braille and embossed, or can be used with a notetaker without being converted into brail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ext files can be opened and read on a computer with a screen read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ext files can be read with refreshable braille displays or screen magnification softwa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-text can be transformed and tagged for structure and mean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ebook ifixtimemachines com.jpg"/>
          <p:cNvPicPr/>
          <p:nvPr/>
        </p:nvPicPr>
        <p:blipFill>
          <a:blip r:embed="rId1"/>
          <a:stretch/>
        </p:blipFill>
        <p:spPr>
          <a:xfrm>
            <a:off x="990720" y="228600"/>
            <a:ext cx="1904760" cy="1758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mmercial e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roduced for mass mark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Usually require a specialized play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ften inaccessible due to DRM sche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any are dedicated readers;  some are no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opular read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mazon Kind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ony Portable Reader se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Jetbook Re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ranklin eBookM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Amazon Kindle.jpg"/>
          <p:cNvPicPr/>
          <p:nvPr/>
        </p:nvPicPr>
        <p:blipFill>
          <a:blip r:embed="rId1"/>
          <a:stretch/>
        </p:blipFill>
        <p:spPr>
          <a:xfrm>
            <a:off x="5867280" y="3809880"/>
            <a:ext cx="2374920" cy="2667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pyright L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“…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t is not an infringement of copyright for an authorized entity to reproduce or to distribute copies of a previously published, nondramatic literary work if such copies are reproduced or distribute in specialized formats exclusively for use by blind or other persons with disabilities.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ection 17 U.S.C . § 121 of Copyright La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pecialized format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ai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gital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 pr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copyright commons wikimedia org.jpg"/>
          <p:cNvPicPr/>
          <p:nvPr/>
        </p:nvPicPr>
        <p:blipFill>
          <a:blip r:embed="rId1"/>
          <a:stretch/>
        </p:blipFill>
        <p:spPr>
          <a:xfrm>
            <a:off x="5791320" y="4419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ligibility Requirements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ownload eBoo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Books in the Public Domain can usually be freely downloaded by any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w, if any, eligibility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pyrighted books in specialized formats are available only to individuals with qualifying print disabil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thorized entit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provide books in specialized formats to eligible individu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IMAS and NIM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National Instructional Materials Accessibility Standard  (NIMA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e publishing standard for creating specialized formats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int instructional material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for students with dis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 requirement of the Individuals with Disabilities Education Act (IDE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National Instructional Materials Accessibility Center (NIMAC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e repository for NIMAS fi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ly K-12 students with documented print disabilities as defined under the U.S. Copyright Law as Amended and have IEPs are eligible to receive NIMAC-sourced books that have been converted into specialized formats (braille, large print, digital text, and audio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NIMAS cast org.jpg"/>
          <p:cNvPicPr/>
          <p:nvPr/>
        </p:nvPicPr>
        <p:blipFill>
          <a:blip r:embed="rId1"/>
          <a:stretch/>
        </p:blipFill>
        <p:spPr>
          <a:xfrm>
            <a:off x="380880" y="533520"/>
            <a:ext cx="1541520" cy="533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nimac nimas cast org.jpg"/>
          <p:cNvPicPr/>
          <p:nvPr/>
        </p:nvPicPr>
        <p:blipFill>
          <a:blip r:embed="rId2"/>
          <a:stretch/>
        </p:blipFill>
        <p:spPr>
          <a:xfrm>
            <a:off x="7086600" y="990720"/>
            <a:ext cx="1681200" cy="457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udent Eligibility and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IMAC's Limitation of Use Agre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8284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s certified by competent authority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ind or whose visual disability prevents the reading of standard printed mate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able to read or unable to use standard printed material as a result of physical limi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ving a reading disability resulting from organic dysfunction and of sufficient severity to prevent their reading printed material in a normal man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ources of Electronic 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ookshare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FB&amp;D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LS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oject Gutenbe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ow Vision Classic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PH Louis Database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ccessible Book Collection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lex Catalogue of Electronic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raille Book Files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599840"/>
            <a:ext cx="4038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lassic Re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di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ternational Electronic Braille Book Libra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ibrivo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umble Read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umble Talking Boo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4litera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age by Page Boo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iflolibros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2930040" y="6095880"/>
            <a:ext cx="595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Requires documentation of print di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14800" y="274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okshare.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 online library of accessible media for readers with print disa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0,000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,000 school groups and organizational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x 40,000 titles in the col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undreds of new books added every mon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okshare’s philosophy: Ease of A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rs must qualif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Bookshare_v1.gif"/>
          <p:cNvPicPr/>
          <p:nvPr/>
        </p:nvPicPr>
        <p:blipFill>
          <a:blip r:embed="rId1"/>
          <a:stretch/>
        </p:blipFill>
        <p:spPr>
          <a:xfrm>
            <a:off x="609480" y="380880"/>
            <a:ext cx="2762280" cy="9622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5029200" y="59436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ww.bookshar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tegories of Pub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rade boo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ajority of top titles avail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ew York Times best sellers, series, colle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ewberry awards, recommended student reading li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000 Spanish language tit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hildren’s boo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extboo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eriodic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50 national and regional newspapers and magazi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Bookshare_v1.gif"/>
          <p:cNvPicPr/>
          <p:nvPr/>
        </p:nvPicPr>
        <p:blipFill>
          <a:blip r:embed="rId1"/>
          <a:stretch/>
        </p:blipFill>
        <p:spPr>
          <a:xfrm>
            <a:off x="457200" y="609480"/>
            <a:ext cx="1312920" cy="457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an Electronic Book (eBook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y book-length publication that requires access through electronic mea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-books can be read online, downloaded and read on a computer, or downloaded and read on a dedicated hardware dev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ebook theebooksale com.jpg"/>
          <p:cNvPicPr/>
          <p:nvPr/>
        </p:nvPicPr>
        <p:blipFill>
          <a:blip r:embed="rId1"/>
          <a:stretch/>
        </p:blipFill>
        <p:spPr>
          <a:xfrm>
            <a:off x="6324480" y="41911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62160" y="2743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ccess to 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stening to them (speech synthesiz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iewing them enlarged (on a computer screen or printed ou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eing and hearing the words at the same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ading braille (digital or hardcop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Bookshare_v1.gif"/>
          <p:cNvPicPr/>
          <p:nvPr/>
        </p:nvPicPr>
        <p:blipFill>
          <a:blip r:embed="rId1"/>
          <a:stretch/>
        </p:blipFill>
        <p:spPr>
          <a:xfrm>
            <a:off x="609480" y="380880"/>
            <a:ext cx="2762280" cy="962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ookshar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DAISY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ownload DAISY books directly from web si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Bookshare DAISY books contain only text, with no prerecorded aud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Navigation is done by paragraph or p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an be read using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aisy read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creen magnification  softwa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creen reading softw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can/read progra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Bookshare_v1.gif"/>
          <p:cNvPicPr/>
          <p:nvPr/>
        </p:nvPicPr>
        <p:blipFill>
          <a:blip r:embed="rId1"/>
          <a:stretch/>
        </p:blipFill>
        <p:spPr>
          <a:xfrm>
            <a:off x="7620120" y="762120"/>
            <a:ext cx="1312920" cy="457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okshare and BRF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wnload contracted digital braille files directly from web s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handheld eBook readers, braille notetakers, or refreshable braille displ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wnload books to embos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Bookshare_v1.gif"/>
          <p:cNvPicPr/>
          <p:nvPr/>
        </p:nvPicPr>
        <p:blipFill>
          <a:blip r:embed="rId1"/>
          <a:stretch/>
        </p:blipFill>
        <p:spPr>
          <a:xfrm>
            <a:off x="380880" y="685800"/>
            <a:ext cx="109404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684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ducer of accessible audio text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rves more than 185,000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rs must qualify for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6,000 digital titles in all major academic and vocational subject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FB&amp;D books require specialized play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learningthroughlistening.or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Content Placeholder 3" descr="RFBD.gif"/>
          <p:cNvPicPr/>
          <p:nvPr/>
        </p:nvPicPr>
        <p:blipFill>
          <a:blip r:embed="rId2"/>
          <a:stretch/>
        </p:blipFill>
        <p:spPr>
          <a:xfrm>
            <a:off x="7086600" y="380880"/>
            <a:ext cx="1670040" cy="9223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476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rding for the Blind &amp; Dyslexic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5334120" y="59436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ww.rfbd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extboo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Biograph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matic colle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ccelerated rea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igh interest-low vocabula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Nonfiction in content are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opular fi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ward winn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obbies and recre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Content Placeholder 3" descr="RFBD.gif"/>
          <p:cNvPicPr/>
          <p:nvPr/>
        </p:nvPicPr>
        <p:blipFill>
          <a:blip r:embed="rId1"/>
          <a:stretch/>
        </p:blipFill>
        <p:spPr>
          <a:xfrm>
            <a:off x="6400800" y="1523880"/>
            <a:ext cx="2000160" cy="11052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tegories of Audio 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uman voice professional quality recor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udent gets the book cover to cover not just the text (table of contents, footnotes, glossary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phs, charts and illustrations described by the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dioPlus CDs are in a fully navigable DAISY form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Content Placeholder 3" descr="RFBD.gif"/>
          <p:cNvPicPr/>
          <p:nvPr/>
        </p:nvPicPr>
        <p:blipFill>
          <a:blip r:embed="rId1"/>
          <a:stretch/>
        </p:blipFill>
        <p:spPr>
          <a:xfrm>
            <a:off x="6629400" y="304920"/>
            <a:ext cx="2000160" cy="1104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eatures of RFB&amp;D Audio Book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udioAc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FB&amp;D’s new downloadable MP3 audiobook fi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udioPl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AISY formatted audio textboo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equire specialized software or play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udioPlus Tex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IMAS converted boo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igh quality synthesized voice with human descrip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ext is available with VRSoft 2.0 softwa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Content Placeholder 3" descr="RFBD.gif"/>
          <p:cNvPicPr/>
          <p:nvPr/>
        </p:nvPicPr>
        <p:blipFill>
          <a:blip r:embed="rId1"/>
          <a:stretch/>
        </p:blipFill>
        <p:spPr>
          <a:xfrm>
            <a:off x="6858000" y="457200"/>
            <a:ext cx="1517760" cy="838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ypes of RFB&amp;D 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National Library Service for Blind and Physically Handicapped (NL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761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free national library program of braille and recorded materi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ded annually by Cong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rs must qualify for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lects and produces full-length books and magazines in braille and recorded form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4730760" y="5867280"/>
            <a:ext cx="37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loc.gov/nl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NLS  flying blind com.jpg"/>
          <p:cNvPicPr/>
          <p:nvPr/>
        </p:nvPicPr>
        <p:blipFill>
          <a:blip r:embed="rId1"/>
          <a:stretch/>
        </p:blipFill>
        <p:spPr>
          <a:xfrm>
            <a:off x="838080" y="5638680"/>
            <a:ext cx="1524240" cy="838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tegories of Pub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stsellers, biographies, fiction, and how-to books are most pop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gaz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, U.S. News and World Report, National Geographic, Consumer Reports, Good Housekeeping, Sports Illustrated for K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sic scores and 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eign language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NLS  flying blind com.jpg"/>
          <p:cNvPicPr/>
          <p:nvPr/>
        </p:nvPicPr>
        <p:blipFill>
          <a:blip r:embed="rId1"/>
          <a:stretch/>
        </p:blipFill>
        <p:spPr>
          <a:xfrm>
            <a:off x="7467480" y="609480"/>
            <a:ext cx="1295640" cy="712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ccess to Books and Materi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braille (Web-Brail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arrated recorded audiocasse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Talking 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rge pr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ss Brail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" descr="NLS  flying blind com.jpg"/>
          <p:cNvPicPr/>
          <p:nvPr/>
        </p:nvPicPr>
        <p:blipFill>
          <a:blip r:embed="rId1"/>
          <a:stretch/>
        </p:blipFill>
        <p:spPr>
          <a:xfrm>
            <a:off x="7162920" y="1447920"/>
            <a:ext cx="1662120" cy="914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 Brief History of e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Earliest mention of eBooks was in mid-20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century science fiction book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reated with early word processing softwa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hared after the beginning of the Intern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Early eBooks were written for specialty areas and limited audien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roject Gutenberg- 197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New technologies produced numerous formats– 1980’s and 1990’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Delivery of eBooks in accessible formats in the late 1990’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ject Gutenbe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ldest digital libra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rgest source of out-of-copyright e-tex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ost items in its collection are the full texts of public domain boo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5,000 books avail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ousands of volunteers built the colle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 million e-books downloaded every mon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ll e-texts can be downloaded free of char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Content Placeholder 3" descr="Project Gutenberg.jpg"/>
          <p:cNvPicPr/>
          <p:nvPr/>
        </p:nvPicPr>
        <p:blipFill>
          <a:blip r:embed="rId1"/>
          <a:stretch/>
        </p:blipFill>
        <p:spPr>
          <a:xfrm>
            <a:off x="533520" y="380880"/>
            <a:ext cx="1495440" cy="8668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4114800" y="59436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gutenberg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14240" y="2743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tegories of etex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ght lit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, Aesop’s Fables, nursery rhymes, fairy t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avy lit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, Hamlet, Moby Di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, almana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Content Placeholder 3" descr="Project Gutenberg.jpg"/>
          <p:cNvPicPr/>
          <p:nvPr/>
        </p:nvPicPr>
        <p:blipFill>
          <a:blip r:embed="rId1"/>
          <a:stretch/>
        </p:blipFill>
        <p:spPr>
          <a:xfrm>
            <a:off x="533520" y="380880"/>
            <a:ext cx="1495440" cy="866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ccess to e-Tex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in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diobook (both computer-generated and human-re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gg Vorbis Aud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le iTunes Audiobo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P3 Aud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eex Aud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uc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ontent Placeholder 3" descr="Project Gutenberg.jpg"/>
          <p:cNvPicPr/>
          <p:nvPr/>
        </p:nvPicPr>
        <p:blipFill>
          <a:blip r:embed="rId1"/>
          <a:stretch/>
        </p:blipFill>
        <p:spPr>
          <a:xfrm>
            <a:off x="7315200" y="380880"/>
            <a:ext cx="1495440" cy="866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85840" y="3506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anyBooks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Books in the public dom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y eTexts from Project Gutenbe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veral search options: author, title, categories, langu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nks for New Additions, Popular Titles, and eBook Re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y formats available, including large print pdf and rt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3" descr="manybooks.gif"/>
          <p:cNvPicPr/>
          <p:nvPr/>
        </p:nvPicPr>
        <p:blipFill>
          <a:blip r:embed="rId1"/>
          <a:stretch/>
        </p:blipFill>
        <p:spPr>
          <a:xfrm>
            <a:off x="762120" y="533520"/>
            <a:ext cx="2705040" cy="6094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4419720" y="59436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manybooks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ow Vision Clas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lassic eBooks in the public domai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Web-based progr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ustomizable displa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per and ink col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int heigh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ea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rg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Justif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ookmark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Helpful for low vision read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Content Placeholder 4" descr="Low Vision Classics.gif"/>
          <p:cNvPicPr/>
          <p:nvPr/>
        </p:nvPicPr>
        <p:blipFill>
          <a:blip r:embed="rId1"/>
          <a:stretch/>
        </p:blipFill>
        <p:spPr>
          <a:xfrm>
            <a:off x="7086600" y="609480"/>
            <a:ext cx="1401840" cy="6098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4"/>
          <p:cNvSpPr/>
          <p:nvPr/>
        </p:nvSpPr>
        <p:spPr>
          <a:xfrm>
            <a:off x="2988000" y="5943600"/>
            <a:ext cx="53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classicbookshelf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3506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merican Printing House for the Bli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ouis Database of Accessible Materials for People who are Blind or Visually Impair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ntains information on 200,000 titles in accessible formats including braille, large print, sound recording, and electronic fi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ntains over 4,500 downloadable electronic files available for use in braille produ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ccounts are available only to authorized ent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ntact PaTTAN Production Services for reque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3" descr="Louis database.jpg"/>
          <p:cNvPicPr/>
          <p:nvPr/>
        </p:nvPicPr>
        <p:blipFill>
          <a:blip r:embed="rId1"/>
          <a:stretch/>
        </p:blipFill>
        <p:spPr>
          <a:xfrm>
            <a:off x="6781680" y="609480"/>
            <a:ext cx="1676520" cy="5511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5417280" y="6095880"/>
            <a:ext cx="31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aph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2320" y="3506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ccessible Book Coll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ollection of high interest/low reading level digital tex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1/3 of collection devoted to elementary level; 1/3 to middle school; 1/3 to high scho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XHTML formatted tex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screen magnification or screen reader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 with text to speech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chang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ze, color, and spacing of all e-boo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opyrighted eBooks available to individuals with documented print disabil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nnual subscription fe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Content Placeholder 3" descr="AccessableBookCollection.jpg"/>
          <p:cNvPicPr/>
          <p:nvPr/>
        </p:nvPicPr>
        <p:blipFill>
          <a:blip r:embed="rId1"/>
          <a:stretch/>
        </p:blipFill>
        <p:spPr>
          <a:xfrm>
            <a:off x="685800" y="380880"/>
            <a:ext cx="1038240" cy="8384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"/>
          <p:cNvSpPr/>
          <p:nvPr/>
        </p:nvSpPr>
        <p:spPr>
          <a:xfrm>
            <a:off x="2004480" y="6019920"/>
            <a:ext cx="64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accessiblebookcollection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lex Catalogue of Electronic Tex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88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llection of public domain documents from American literature, English literature, and Western philoso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4,000 public domain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arch by author or 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ML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Content Placeholder 3" descr="Alex Catalogue.gif"/>
          <p:cNvPicPr/>
          <p:nvPr/>
        </p:nvPicPr>
        <p:blipFill>
          <a:blip r:embed="rId1"/>
          <a:stretch/>
        </p:blipFill>
        <p:spPr>
          <a:xfrm>
            <a:off x="457200" y="457200"/>
            <a:ext cx="66204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4060440" y="571500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infomotions.com/alex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14240" y="2743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raille Book 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ffers books at all grade levels that are submitted by teachers and transcri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te is maintained  by Texas School for the Blind and Visually Impa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cess is password-protected and limited to individuals with a print disability or to nonprofit organizations serving these individu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umerous formats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3" descr="Braille Book Files.gif"/>
          <p:cNvPicPr/>
          <p:nvPr/>
        </p:nvPicPr>
        <p:blipFill>
          <a:blip r:embed="rId1"/>
          <a:stretch/>
        </p:blipFill>
        <p:spPr>
          <a:xfrm>
            <a:off x="1066680" y="609480"/>
            <a:ext cx="955800" cy="838440"/>
          </a:xfrm>
          <a:prstGeom prst="rect">
            <a:avLst/>
          </a:prstGeom>
          <a:ln w="0">
            <a:noFill/>
          </a:ln>
        </p:spPr>
      </p:pic>
      <p:sp>
        <p:nvSpPr>
          <p:cNvPr id="172" name="TextBox 4"/>
          <p:cNvSpPr/>
          <p:nvPr/>
        </p:nvSpPr>
        <p:spPr>
          <a:xfrm>
            <a:off x="2687760" y="6019920"/>
            <a:ext cx="605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tsbvi.edu/braille/index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lassic Rea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ffers fiction, nonfiction, children’s literature, plays, short stories, poetry, Greek and Roman classics, and author biograph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464 works of literature, including 1998 short sto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ull unabridged vers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ll book are in HTML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ownloads are available to registered users (registration is fre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3" descr="Classic Reader.gif"/>
          <p:cNvPicPr/>
          <p:nvPr/>
        </p:nvPicPr>
        <p:blipFill>
          <a:blip r:embed="rId1"/>
          <a:stretch/>
        </p:blipFill>
        <p:spPr>
          <a:xfrm>
            <a:off x="6781680" y="380880"/>
            <a:ext cx="1200240" cy="8953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4"/>
          <p:cNvSpPr/>
          <p:nvPr/>
        </p:nvSpPr>
        <p:spPr>
          <a:xfrm>
            <a:off x="4119840" y="6019920"/>
            <a:ext cx="48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classicreader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dvantages of e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cessible form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ucture and ease of navi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-text files are smaller, lighter, and more portable than large print or braille volu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asier to store and car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ven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asier on the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DL for all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85840" y="274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udible.c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50,000 books, magazines, newspapers, podca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unabridged and abridged digital audiobooks in dozens of genres including mystery, self-development, fiction, business, comedy, hist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Bookmark fea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ownload the audio to a computer, mobile device or MP3 playe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isten immediately, transfer files to an audio player, or burn them to C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ubscription-based membersh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Content Placeholder 3" descr="audibledotcom.gif"/>
          <p:cNvPicPr/>
          <p:nvPr/>
        </p:nvPicPr>
        <p:blipFill>
          <a:blip r:embed="rId1"/>
          <a:stretch/>
        </p:blipFill>
        <p:spPr>
          <a:xfrm>
            <a:off x="1066680" y="609480"/>
            <a:ext cx="2467080" cy="533520"/>
          </a:xfrm>
          <a:prstGeom prst="rect">
            <a:avLst/>
          </a:prstGeom>
          <a:ln w="0">
            <a:noFill/>
          </a:ln>
        </p:spPr>
      </p:pic>
      <p:sp>
        <p:nvSpPr>
          <p:cNvPr id="180" name="TextBox 4"/>
          <p:cNvSpPr/>
          <p:nvPr/>
        </p:nvSpPr>
        <p:spPr>
          <a:xfrm>
            <a:off x="4659120" y="6019920"/>
            <a:ext cx="38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audibl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ternational Electronic Braill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ook Libr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llection of over 1,000  public domain titles available in digital brail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llection includes books by many authors from different nations and cult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ad them on-line or download them to read off-line either in hard-copy braille or by loading them into devices such as braille notetak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ownload individual parts of a book, an individual book, or an entire collection of books by a specific author by selecting the appropriate links on the specified pa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o search capa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ll books are in BRF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4885920" y="6019920"/>
            <a:ext cx="35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braill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ibrivo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rovides free public domain audio book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Volunteers record chapters of books in the public domain and upload the recorded fi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.mp3  and ogg vorbis forma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1550 audio book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Listen to the audio book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a computer’s audio play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ad the files into an iPod or other portable audio play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rn the files to an audio C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4826160" y="5867280"/>
            <a:ext cx="28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librivox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LibriVox redferret net.jpg"/>
          <p:cNvPicPr/>
          <p:nvPr/>
        </p:nvPicPr>
        <p:blipFill>
          <a:blip r:embed="rId1"/>
          <a:stretch/>
        </p:blipFill>
        <p:spPr>
          <a:xfrm>
            <a:off x="6629400" y="304920"/>
            <a:ext cx="1981080" cy="1177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umble Readable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nline Large Print Libr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nline collection of read-along titles for elementary, middle, and high school studen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Features adjustable online text and complete audio narr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entences are highlighted as they are being read and the pages turn automaticall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ollection features chapter books, early readers, teen novels, high interest/low level books for both middle school and high school students, plus classics of American and English literatu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ubscription-bas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796320" y="609588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www.tumblebooks.com/tumblereadable/default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tumblereadables portlandlibrary com.jpg"/>
          <p:cNvPicPr/>
          <p:nvPr/>
        </p:nvPicPr>
        <p:blipFill>
          <a:blip r:embed="rId1"/>
          <a:stretch/>
        </p:blipFill>
        <p:spPr>
          <a:xfrm>
            <a:off x="457200" y="380880"/>
            <a:ext cx="990720" cy="1028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umble Talking 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n online audio book library collection of streaming audio books for public libraries and schoo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Unabridged high quality audio versions of classics of American and world literature, non-fiction, fiction, plays, drama, and children and teen book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ollection includes 65 Read-Along titles which combine large print online text with complete unabridged narr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Bookmarking featu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ubscription-bas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996480" y="5943600"/>
            <a:ext cx="743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www.tumblebooks.com/talkingbooks/default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tumblereadables portlandlibrary com.jpg"/>
          <p:cNvPicPr/>
          <p:nvPr/>
        </p:nvPicPr>
        <p:blipFill>
          <a:blip r:embed="rId1"/>
          <a:stretch/>
        </p:blipFill>
        <p:spPr>
          <a:xfrm>
            <a:off x="7543800" y="457200"/>
            <a:ext cx="1027080" cy="1066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7760" y="2743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4lit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llection has 2,000 books, stories, poems, plays, religious and historical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ML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aders can read online at no charge or purchase the collection for $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easily search for books from web s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4literature.jpg"/>
          <p:cNvPicPr/>
          <p:nvPr/>
        </p:nvPicPr>
        <p:blipFill>
          <a:blip r:embed="rId1"/>
          <a:stretch/>
        </p:blipFill>
        <p:spPr>
          <a:xfrm>
            <a:off x="838080" y="380880"/>
            <a:ext cx="1524240" cy="12528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3887280" y="5943600"/>
            <a:ext cx="41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4literatur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age by Page 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ndreds of free classic books in the public domain, includ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ted State historical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sidential inaugural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ooks can be read online one page at a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ader can also navigate by chap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Content Placeholder 3" descr="pagebypage.gif"/>
          <p:cNvPicPr/>
          <p:nvPr/>
        </p:nvPicPr>
        <p:blipFill>
          <a:blip r:embed="rId1"/>
          <a:stretch/>
        </p:blipFill>
        <p:spPr>
          <a:xfrm>
            <a:off x="6248520" y="762120"/>
            <a:ext cx="2415960" cy="3045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5"/>
          <p:cNvSpPr/>
          <p:nvPr/>
        </p:nvSpPr>
        <p:spPr>
          <a:xfrm>
            <a:off x="2839320" y="5791320"/>
            <a:ext cx="56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pagebypageboo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3848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iflolibr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irst digital library for Spanish-speaking bli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llection includes 20,000 digital books in Spanis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vailable to individuals with a documented print disabilit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Books are downloaded using a personal passwo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3594960" y="5410080"/>
            <a:ext cx="453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tiflolibros.com.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Tiflolibros.jpg"/>
          <p:cNvPicPr/>
          <p:nvPr/>
        </p:nvPicPr>
        <p:blipFill>
          <a:blip r:embed="rId1"/>
          <a:stretch/>
        </p:blipFill>
        <p:spPr>
          <a:xfrm>
            <a:off x="990720" y="380880"/>
            <a:ext cx="2533680" cy="1067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dditional Credits and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essible Devices. (2006). Web Sites Offering Online Source for Books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lected Sources for Electronic Tex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Retrieved July 16, 2008, from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accessible-devices.com/electronicbooks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erican Foundation for the Blind. (2008). Accessible Textbooks: A Glossary of Commonly User Terms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B: Expanding possibilities for people with vision lo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Retrieved July 16, 2008, from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afb.org/Section.asp?SectionID=4&amp;TopicID=222&amp;DocumentID=37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idges4Kids. (2008). Bookshare.org: Membership Driven Site That Offers Electronic Books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idges4kids: Building partnerships between families, schools, and commun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Retrieved July 24, 2008, from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bridges4kids.org/articles/12-03/Bookshare12-03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dditional Credits and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nter for Applied Special Technology (CAST). (2008). Digital Talking Books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IMAS at CA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Retrieved July 8, 2008, from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nimas.cast.org/about/resources/dtb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nter for Applied Special Technology (CAST). (2008). Accessible Textbooks in the Classroom: An Educator's Guide to the Acquisition of Alternate Format Core Learning Materials for PreK-12 Students with Print Disabilities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IMAS at CA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Retrieved July 17, 2008, from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nimas.cast.org/about/resources/accessible-textboo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isy Consortium. (2008). Technology Overview: What is a DTB?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isy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Retrieved July 18, 2008, fro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daisy.org/about_us/dtbooks.s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resner, A. (2004). Finding eBooks on the Internet. Boston: National Braille Pr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ypes of e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brail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aud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-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ercial e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ebookmerchant com.jpg"/>
          <p:cNvPicPr/>
          <p:nvPr/>
        </p:nvPicPr>
        <p:blipFill>
          <a:blip r:embed="rId1"/>
          <a:stretch/>
        </p:blipFill>
        <p:spPr>
          <a:xfrm>
            <a:off x="5486400" y="1676520"/>
            <a:ext cx="1468440" cy="1600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Sony reader pocketnow com.jpg"/>
          <p:cNvPicPr/>
          <p:nvPr/>
        </p:nvPicPr>
        <p:blipFill>
          <a:blip r:embed="rId2"/>
          <a:stretch/>
        </p:blipFill>
        <p:spPr>
          <a:xfrm>
            <a:off x="914400" y="4419720"/>
            <a:ext cx="1905120" cy="1757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refreshable braille display flickr com.jpg"/>
          <p:cNvPicPr/>
          <p:nvPr/>
        </p:nvPicPr>
        <p:blipFill>
          <a:blip r:embed="rId3"/>
          <a:stretch/>
        </p:blipFill>
        <p:spPr>
          <a:xfrm>
            <a:off x="5867280" y="4267080"/>
            <a:ext cx="2652840" cy="2000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dditional Credits and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s Cavanaugh Educational Technology. (2006). Accommodations for Reading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ology &amp; Reading eBooks in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Retrieved July 16, 2008, fro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drscavanaugh.org/ebooks/accommodations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s Cavanaugh Educational Technology. (2006). eBooks: A Brief History of the eBook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ology &amp; Reading eBooks in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 Retrieved July 24, 2008, fro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drscavanaugh.org/ebooks/timeline/history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s. Cavanaugh. (2006). Online eBook Libraries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ology &amp; Reading eBooks in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Retrieved July 18, 2008, fro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drscavanaugh.org/ebooks/libraries/ebook_libraries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ivage, C., Cirenza, D., Strange, J. (2007, September). Accessible Online Book Sources. Retrieved July 24, 2008, fro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infoeyes.org/inforeyespres.p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dditional Credits and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 Tech Associates. (2005). eBooks, eTexts &amp; Readers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istive technology consulting for learning disabil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Retrieved July 17, 2008, fro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edtech-associates.com/ebooks-etexts-and-readers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igital Products. (2008). Benefits &amp; Advantages of eBooks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igitalproducts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Retrieved July 17, 2008, fro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idigitalproducts.com/article1.php?id=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D Online. (2008). Making the Written Word Easier for Readers with Print Disabilities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Center for Technology Innovation &amp; Center for Implementing Technology in Education (2008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Retrieved July 24, 2008, fro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ldonline.org/article/2300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ghthouse International. (2008). Sources for Online Books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ible technology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rieved July 16, 2008, fro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ww.lighthouse.org/accessibility/accessible-technology/sour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dditional Credits and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 eBook Design (2008). e-Book History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Bo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Retrieved July 16, 2008, fro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myebookdesign.com/History-Of-E-Book-Design.asp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ce, P. (2007). Interview with Jim Fuchterman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uture of Bookshare.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[Electronic text file]. Text Summary Archive of Book Clubs Page: Friends of Booksha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as AT Conference. (2008). Bookshare.org for Education &amp; Texas - June 23-25, 2008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as Assistive Technology Regional Conference 200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etrieved July 24, 2008, fro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texasatconference.net/bookshare.conf.NIMAS.pd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versity of South Carolina. (2008). Web Toolboxes: Free Tools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versity of South Carolina College of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Retrieved July 17, 2008, fro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ed.sc.edu/caw/toolboxfree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ages obtained from Google images: http://images.google.com/imghp?hl=en&amp;tab=w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igital Brail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aille in electronic 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aille Ready Files (BRF) are ready to emboss into hard-copy braille or to use with an electronic notetaker, such as a BrailleNo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oks in braille format can be directly read with a refreshable braille dev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F files can be read using specialized scanning/reading progra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igital Au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gital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cessibl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nformation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tem (DAIS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 universal standard format for reading and publishing digital talking boo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equires special digital player or softw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everal form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mmercial audio boo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any players available (e.g., Amazon Kindle, SONY Rea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oduced for mass mark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AISY 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m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xt-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dio-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xt and aud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gital audio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ed-up file containing 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nchronization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vigation control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Plextalk at Freedom Scientific com.jpg"/>
          <p:cNvPicPr/>
          <p:nvPr/>
        </p:nvPicPr>
        <p:blipFill>
          <a:blip r:embed="rId1"/>
          <a:stretch/>
        </p:blipFill>
        <p:spPr>
          <a:xfrm>
            <a:off x="6248520" y="1676520"/>
            <a:ext cx="2050920" cy="1600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dvantages of DAISY 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ove between headings and between different levels in the boo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Go to any page you search f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earch for words found in the headings of the boo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lace bookmarks in the tex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ake notes in text (text and voice note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ncrease or decrease rate of spee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Gain access to many hours of recorded spee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ne DAISY book (or more) can be contained on one C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09:05:24Z</dcterms:created>
  <dc:creator>Karen Narvol</dc:creator>
  <dc:description/>
  <dc:language>en-US</dc:language>
  <cp:lastModifiedBy>Karen Narvol</cp:lastModifiedBy>
  <dcterms:modified xsi:type="dcterms:W3CDTF">2008-08-24T20:51:54Z</dcterms:modified>
  <cp:revision>416</cp:revision>
  <dc:subject/>
  <dc:title>The Potential of Electronic Books for Students with Visual Impairments</dc:title>
</cp:coreProperties>
</file>